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2904D11C-8BBB-48AB-8BE4-6340FC3CE3F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ADA36315-496F-41F6-AB15-48C594C6B8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C2252820-6CD8-4648-BB14-B2AA2845C02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A3674348-6BC0-4DA3-AF84-5D33283EC7A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9DA922D6-8CDA-480A-A978-0CF550FC4D7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47ECBADF-17CC-4B2F-8BAC-282B2456268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8850CDD-7626-49B3-98C7-AFE088286C9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866B4B13-8745-4091-970E-CCC9E3F0BA6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AE6EBF3-D726-44BA-ABED-DA6529A5901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E66FB735-243B-4806-A7B0-6FCFCCB278A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4052533-F68F-44BA-9131-C6F43ECC30C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F22F203F-FD5F-4486-A9A7-7C0831896DA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78C96C00-3E88-429C-9580-CFBC9C70F9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FB12EF3E-E47F-452A-93A6-5CE05AA0F27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A84FFBAE-3BF5-42F7-94E6-D767C3E88D2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25FDE6E-7804-4E7F-8BA5-3456B7DBEB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76D-E292-4FBE-80A1-39C124BA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1B9-617E-40CE-A5AF-0CA2673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EEC-B0D4-4AA6-B7DB-A425DC85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D12-85F1-4AB5-8B8C-80CED03F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E5C1-BC83-4DF3-89B0-413648F5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3D2-93C6-4B22-AAB7-BE0B524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158D-00DD-4F31-A6CD-28E223F4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556-52B6-4EB9-A72D-E1D045C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EDA7-F195-40CF-9B92-7C47C075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7E0-1A72-4CE5-9D8B-5508EF8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DEE2-ADCC-4AB6-A893-05CB296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671-7DC0-4EE6-94D0-56C1BD6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4EBE-BAC5-4E4F-A6BD-B1227CF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FA4-06C6-470D-844F-77F67FF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8F1-D426-40EE-B4D6-0EA45B0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75AC-3A79-4C31-9DF2-0884C63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714-2564-4A51-9BAF-9DC8AE1D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A88-AEE4-4079-9313-6F0A107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8A6-D2FB-478B-B555-0ED7F1B1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D00-C2ED-429F-AD45-7AA2D00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F61-136C-4F91-94E7-001EA73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BAC-9524-4012-83A6-AFA1BF1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D56-6643-4FF3-A249-0683809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B2F-97A9-42C6-982B-4C653F4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0AA-1CED-4ABC-AEEA-0210B4D6E4CA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73B-FCA7-4703-AB70-6EE16E273A8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9E3-FFBE-491D-A058-A640252F12BA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308C-5C2D-47E0-BA01-2367ABEAC4D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9520" y="115560"/>
            <a:ext cx="986472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IMRBPB Annual Meeting (IAM) </a:t>
            </a: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Action Item 2023-03</a:t>
            </a:r>
            <a:br>
              <a:rPr sz="3500"/>
            </a:b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May 17, 2024</a:t>
            </a:r>
            <a:endParaRPr b="1" lang="en-US" sz="3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9160" y="2852280"/>
            <a:ext cx="9574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by Jeffrey Phi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, Operational Airworth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Branch, Transport Canada Civil Aviation (TC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01660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IMS #202940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34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1160" y="981000"/>
            <a:ext cx="109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MSG-3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Even if functional failures (evident or hidden) are identified, lack of direct adverse effect to 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E.g., prevent the continued safe flight and l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efinition of safety/emergency systems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Flight data recorders do not enhance aircraft evacuatio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When failed, does not have an adverse effect on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oes not consider other functions of recorder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Such as, data integrity, data preservation, use for accident/incident investigation and associated recommendations,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Current MSG-3 task selection is not aligned with typical tasks associated with recorder system mainte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111-B8E4-4295-9EC5-FB7F97190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Option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717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A’s have a responsibility to establish/maintain national requirements inline with ICAO and industr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, Operational Check, and Recording in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re if all NAAs follow ICAO requirements or if they have filed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MSG-3 to ensure systems/equipment used for accident/incident investigation and SAR purposes are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definitions such as safety (adverse effect), direct adverse effect on operating safety, safety/emergency systems or equipment and 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logic diagram and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w analysis to address systems/equipment used for accident/incident investigation and SAR purposes, which may include flight recorders (FDR/CVR/DLR), ULD, and distress transmitters such as ELT and GAD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BE5-E899-4E87-961F-89EF9CD9E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- New logic in MSG-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finitions required to address systems/equipment used for accident/incident investigation and search and rescu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logic analysis to consid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, data accuracy, integrity/preservation, location transmissions, as part of the analysis procedure (Functions, functional failures, failure effects, failure caus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aintenance standards need to also be considered (type of task, intervals, how to per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ould it fit into MSG-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current MSI s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dicated MSI item? [e.g., MSI-AI (accident-investigation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2.3 Aircraft Systems/Powerplant analys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2.7 after L/HIR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9991-B1D7-4300-A5F0-EA532A4166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– Road Map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xamples of analysis for these systems (next 6 month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ples and draft CIP (March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raft CIP out for review (April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CIP based on comments received follow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d submit final version of the CIP (February  202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6 I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9DAF-9EA4-4AAC-9122-0A6DD8304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4776840" y="1690560"/>
            <a:ext cx="263844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C8F-E2BC-469A-885A-9E56B7ECF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520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on Item (AI) 2023-0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5160" y="2133360"/>
            <a:ext cx="10801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TCCA to develop a new regulatory CIP to cover the FDR/CVR issue related to AI 2019-06 and AI 2019-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tent: to amend MSG-3 to accommodate safety related system to produce tasks to maintain integrity of such systems (e.g. FDR, CVR, DLR, ULB/D, and 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792-1619-4782-A636-68D89BFC2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8080"/>
            <a:ext cx="10515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ight Recorder System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5160" y="1777680"/>
            <a:ext cx="1080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Review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CAO SA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NAA regulatory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MR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26EB-A322-40B4-86F3-16BA12891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AO Annex 6 and Doc 10104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08120" y="4624560"/>
            <a:ext cx="1108872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ording Insp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 from each aircraft source and relevant external sources shall be carried out by replay to verify that all required signals meet intelligibility standa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, in engineering units, to evaluate the validity of all recorded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messages shall be carried out by repl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B/UL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ARP on maintenance. DOC 10104 recommends following manufacturer’s recommend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BE3-CC5D-4D59-8D28-816DA71B9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8120" y="639720"/>
          <a:ext cx="10775880" cy="3865680"/>
        </p:xfrm>
        <a:graphic>
          <a:graphicData uri="http://schemas.openxmlformats.org/drawingml/2006/table">
            <a:tbl>
              <a:tblPr/>
              <a:tblGrid>
                <a:gridCol w="1455480"/>
                <a:gridCol w="3068640"/>
                <a:gridCol w="625176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s or no ICAs - 2 or 5 years (depending on sens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ROCAE ED-112A and SAE 8045A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3BC-8232-4E69-9387-23F8A0CE2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0" y="857160"/>
          <a:ext cx="10766520" cy="4559400"/>
        </p:xfrm>
        <a:graphic>
          <a:graphicData uri="http://schemas.openxmlformats.org/drawingml/2006/table">
            <a:tbl>
              <a:tblPr/>
              <a:tblGrid>
                <a:gridCol w="1351080"/>
                <a:gridCol w="3600360"/>
                <a:gridCol w="581508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to 2 years 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-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00 HRS/ 60 months (or by analysis of syst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’s recommendations (M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(voltage and ope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A Regulatory Framework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BF6-80DC-4493-ACD8-C216F2FC2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6920" y="831960"/>
          <a:ext cx="11658600" cy="5333760"/>
        </p:xfrm>
        <a:graphic>
          <a:graphicData uri="http://schemas.openxmlformats.org/drawingml/2006/table">
            <a:tbl>
              <a:tblPr/>
              <a:tblGrid>
                <a:gridCol w="1187280"/>
                <a:gridCol w="2757600"/>
                <a:gridCol w="2592360"/>
                <a:gridCol w="2058840"/>
                <a:gridCol w="3062520"/>
              </a:tblGrid>
              <a:tr h="27360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NAA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</a:tr>
              <a:tr h="2739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 (Intellig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21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or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360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–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99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RBR Task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B75-11BA-43A2-A157-85763A5DE6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5880" y="692280"/>
          <a:ext cx="11160360" cy="4717800"/>
        </p:xfrm>
        <a:graphic>
          <a:graphicData uri="http://schemas.openxmlformats.org/drawingml/2006/table">
            <a:tbl>
              <a:tblPr/>
              <a:tblGrid>
                <a:gridCol w="1187640"/>
                <a:gridCol w="2766960"/>
                <a:gridCol w="2232000"/>
                <a:gridCol w="2592360"/>
                <a:gridCol w="2381400"/>
              </a:tblGrid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ye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light hours (F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527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 (D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248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622440" y="1090440"/>
            <a:ext cx="10929960" cy="57373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14F-A296-4ACA-9BE5-1F2F810AA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44560" y="861840"/>
            <a:ext cx="10515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S and MSG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ce of National requirements (IP 16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rying to solve the problem of some safety/emergency equipment may not have been identified as an M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S (chapters 4 &amp; 5) and MSG-3 (2-1-2.3 &amp; 2-3-1) amended to state the development of scheduled maintenance shall not be unduly influenced by National Requirements, which was intended to mean the MSI selection process should not be influ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helped with the identification of an MSI but may have prevented task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65C-F4FA-4B55-9DEC-B016F8912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34Z</dcterms:created>
  <dc:creator>Claude Hudon</dc:creator>
  <dc:description/>
  <cp:keywords/>
  <dc:language>en-US</dc:language>
  <cp:lastModifiedBy>Phipps, Jeff (TC/TC)</cp:lastModifiedBy>
  <cp:lastPrinted>2024-05-06T13:48:28Z</cp:lastPrinted>
  <dcterms:modified xsi:type="dcterms:W3CDTF">2024-05-06T13:52:41Z</dcterms:modified>
  <cp:revision>1486</cp:revision>
  <dc:subject/>
  <dc:title>Title of 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b5bbdc02-cb35-4d29-b911-7fc063a80903_ActionId">
    <vt:lpwstr>0a961540-c603-4f8e-ac98-b17b1266b21c</vt:lpwstr>
  </property>
  <property fmtid="{D5CDD505-2E9C-101B-9397-08002B2CF9AE}" pid="3" name="MSIP_Label_b5bbdc02-cb35-4d29-b911-7fc063a80903_ContentBits">
    <vt:lpwstr>0</vt:lpwstr>
  </property>
  <property fmtid="{D5CDD505-2E9C-101B-9397-08002B2CF9AE}" pid="4" name="MSIP_Label_b5bbdc02-cb35-4d29-b911-7fc063a80903_Enabled">
    <vt:lpwstr>true</vt:lpwstr>
  </property>
  <property fmtid="{D5CDD505-2E9C-101B-9397-08002B2CF9AE}" pid="5" name="MSIP_Label_b5bbdc02-cb35-4d29-b911-7fc063a80903_Method">
    <vt:lpwstr>Privileged</vt:lpwstr>
  </property>
  <property fmtid="{D5CDD505-2E9C-101B-9397-08002B2CF9AE}" pid="6" name="MSIP_Label_b5bbdc02-cb35-4d29-b911-7fc063a80903_Name">
    <vt:lpwstr>Unclassified (No Marking)</vt:lpwstr>
  </property>
  <property fmtid="{D5CDD505-2E9C-101B-9397-08002B2CF9AE}" pid="7" name="MSIP_Label_b5bbdc02-cb35-4d29-b911-7fc063a80903_SetDate">
    <vt:lpwstr>2023-12-05T18:44:06Z</vt:lpwstr>
  </property>
  <property fmtid="{D5CDD505-2E9C-101B-9397-08002B2CF9AE}" pid="8" name="MSIP_Label_b5bbdc02-cb35-4d29-b911-7fc063a80903_SiteId">
    <vt:lpwstr>2008ffa9-c9b2-4d97-9ad9-4ace25386be7</vt:lpwstr>
  </property>
</Properties>
</file>