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marL="216000" indent="0" algn="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12ED73CA-93C1-4A6B-9945-811B19C21B31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406080" y="696960"/>
            <a:ext cx="619740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marL="216000" indent="0" algn="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538DA2EF-446C-4E43-AD49-5046B700256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FD6A71FD-CF0B-4A55-BA35-1DA4DD30616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0FEB27AE-14E5-470A-A114-1206B75EA69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669FFA85-A43D-4ED4-9B50-9706002568E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C3FE7016-9256-45AE-B85A-B65D1A9B1FB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063D8B11-9E38-4B6B-AC4F-5DDC231BB4D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FF89964F-12E0-4496-BDB5-43C3D248519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FA2B108A-52F8-4BAB-A7A0-75365F9B99C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CB163CE2-9E30-48C0-BE5F-D4AFE04562F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E75CEC2A-EF1E-467E-A073-514C5D9CA2D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9CC8E1B4-47F6-49CB-BD55-1F9772B7EE4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6C35558D-2F64-4D87-8578-74D41BF37EC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D87A7EDE-8DA5-49FA-A60F-51C28F170C2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02906C20-F643-48C1-8A43-13F5C499FED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D5A019CB-A208-474A-BD86-A1E692494B7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80D-DC81-4F4A-94A0-D48D3C42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666-6396-4895-AADB-19258807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E06-6F5A-4C42-B71D-A6908F21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F3E-594B-4E3C-B810-D855B8A1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5291-E7FC-42BA-A2F2-08EC9AF6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9857-4966-4FDC-B4AC-16E2A23F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570E-FB37-433A-9428-CDBCA4CA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00CA-C59C-40AB-B010-F1EC37C7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8CCB-62DF-46A6-A899-9C951F99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A031-9101-47E3-AA66-25CD8F84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8FCE-F7D5-48C2-863A-80B2488F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486-0710-4323-9489-CFC3A96E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E71C-DF1C-4F26-983A-1677B4C7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37FF-89F7-4405-80D3-2C21A480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F30E-12C6-4148-BA77-71F5A28D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E456-203B-455F-B828-DA60D635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762F-A5FC-4F20-98C0-CBFBA886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721-68CE-402B-98B5-1B5C1386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E3B-D553-4006-83A9-07977B5E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887-04C9-4340-8776-BA12A2B0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285-13CF-411A-8F70-8EC4FA54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906-3E73-4803-8474-F8CF48C7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66C-D1C9-4C12-82D9-A153F156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355-A899-4017-B706-15D14FCF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848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F17E-6C38-4777-8012-0F16E72B367A}" type="datetime">
              <a:rPr b="0" lang="en-CA" sz="10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28488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16288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4C1A-0A7B-4591-AC33-E9D2664BE47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2848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E940-A5E7-4225-ABD5-720A04D2A25F}" type="datetime">
              <a:rPr b="0" lang="en-CA" sz="1000" spc="-1" strike="noStrike">
                <a:solidFill>
                  <a:srgbClr val="898989"/>
                </a:solidFill>
                <a:latin typeface="Times New Roman"/>
              </a:rPr>
              <a:t>26-07-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28488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116288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89F0-BEC8-4727-AB7E-BEF0226159B1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9520" y="115560"/>
            <a:ext cx="9864720" cy="25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CA" sz="3500" spc="-1" strike="noStrike">
                <a:solidFill>
                  <a:srgbClr val="000000"/>
                </a:solidFill>
                <a:latin typeface="Arial"/>
              </a:rPr>
              <a:t>IMRBPB Annual Meeting (IAM) </a:t>
            </a:r>
            <a:br>
              <a:rPr sz="3500"/>
            </a:br>
            <a:r>
              <a:rPr b="1" lang="en-CA" sz="3500" spc="-1" strike="noStrike">
                <a:solidFill>
                  <a:srgbClr val="000000"/>
                </a:solidFill>
                <a:latin typeface="Arial"/>
              </a:rPr>
              <a:t>Action Item 2023-03</a:t>
            </a:r>
            <a:br>
              <a:rPr sz="3500"/>
            </a:br>
            <a:br>
              <a:rPr sz="3500"/>
            </a:br>
            <a:r>
              <a:rPr b="1" lang="en-CA" sz="3500" spc="-1" strike="noStrike">
                <a:solidFill>
                  <a:srgbClr val="000000"/>
                </a:solidFill>
                <a:latin typeface="Arial"/>
              </a:rPr>
              <a:t>May 17, 2024</a:t>
            </a:r>
            <a:endParaRPr b="1" lang="en-US" sz="3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79160" y="2852280"/>
            <a:ext cx="95742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ed by Jeffrey Phip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ef, Operational Airworthi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s Branch, Transport Canada Civil Aviation (TC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5016600" y="6237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IMS #202940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2340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of Review (cont’d)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41160" y="981000"/>
            <a:ext cx="1090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PMingLiU"/>
              </a:rPr>
              <a:t>MSG-3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Even if functional failures (evident or hidden) are identified, lack of direct adverse effect to safe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PMingLiU"/>
              </a:rPr>
              <a:t>E.g., prevent the continued safe flight and la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Definition of safety/emergency systems or equip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PMingLiU"/>
              </a:rPr>
              <a:t>Flight data recorders do not enhance aircraft evacuation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PMingLiU"/>
              </a:rPr>
              <a:t>When failed, does not have an adverse effect on saf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Does not consider other functions of recorder or equip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PMingLiU"/>
              </a:rPr>
              <a:t>Such as, data integrity, data preservation, use for accident/incident investigation and associated recommendations, and 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Current MSG-3 task selection is not aligned with typical tasks associated with recorder system mainten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8667-70A3-43C8-942C-26755B592E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tential Options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717120"/>
            <a:ext cx="1051560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A’s have a responsibility to establish/maintain national requirements inline with ICAO and industr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, Operational Check, and Recording insp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ure if all NAAs follow ICAO requirements or if they have filed a dif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d MSG-3 to ensure systems/equipment used for accident/incident investigation and SAR purposes are analyz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definitions such as safety (adverse effect), direct adverse effect on operating safety, safety/emergency systems or equipment and M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logic diagram and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new analysis to address systems/equipment used for accident/incident investigation and SAR purposes, which may include flight recorders (FDR/CVR/DLR), ULD, and distress transmitters such as ELT and GAD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9EF4-50A0-42E6-99AB-AA23FD01E9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tion 3 - New logic in MSG-3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47800" y="906120"/>
            <a:ext cx="1051560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efinitions required to address systems/equipment used for accident/incident investigation and search and rescue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logic analysis to consid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ing, data accuracy, integrity/preservation, location transmissions, as part of the analysis procedure (Functions, functional failures, failure effects, failure cause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maintenance standards need to also be considered (type of task, intervals, how to perfor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would it fit into MSG-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current MSI sele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edicated MSI item? [e.g., MSI-AI (accident-investigation)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art of 2.3 Aircraft Systems/Powerplant analysis proced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2.7 after L/HIRF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90D6-1EB8-4CD9-B47D-5E033F4A9E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tion 3 – Road Map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47800" y="906120"/>
            <a:ext cx="1051560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examples of analysis for these systems (next 6 months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examples and draft CIP (March 202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draft CIP out for review (April 202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IP during 2025 I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 CIP based on comments received following 2025 I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nd submit final version of the CIP (February  2026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IP during 2026 I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B938-EB53-4BE2-A26F-F7F79C1B20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30" name="Content Placeholder 4" descr=""/>
          <p:cNvPicPr/>
          <p:nvPr/>
        </p:nvPicPr>
        <p:blipFill>
          <a:blip r:embed="rId1"/>
          <a:stretch/>
        </p:blipFill>
        <p:spPr>
          <a:xfrm>
            <a:off x="4776840" y="1690560"/>
            <a:ext cx="2638440" cy="255276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5DD4-4C35-4E34-A7CD-880D7316C2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25200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on Item (AI) 2023-03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95160" y="2133360"/>
            <a:ext cx="10801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TCCA to develop a new regulatory CIP to cover the FDR/CVR issue related to AI 2019-06 and AI 2019-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Intent: to amend MSG-3 to accommodate safety related system to produce tasks to maintain integrity of such systems (e.g. FDR, CVR, DLR, ULB/D, and EL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D0EA-1947-4AE2-9123-DE77294643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208080"/>
            <a:ext cx="10515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ight Recorder Systems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95160" y="1777680"/>
            <a:ext cx="10801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PMingLiU"/>
              </a:rPr>
              <a:t>Review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ICAO SAR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Industr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NAA regulatory frame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MRB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795E-2700-4606-8C5A-EFDD998584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AO Annex 6 and Doc 10104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08120" y="4624560"/>
            <a:ext cx="1108872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ording Inspe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and examination of recorded data from each aircraft source and relevant external sources shall be carried out by replay to verify that all required signals meet intelligibility standar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D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and examination of recorded data, in engineering units, to evaluate the validity of all recorded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and examination of recorded messages shall be carried out by repla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LB/UL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ARP on maintenance. DOC 10104 recommends following manufacturer’s recommenda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5991-04BD-491D-B88A-235B4185FE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08120" y="639720"/>
          <a:ext cx="10775880" cy="3865680"/>
        </p:xfrm>
        <a:graphic>
          <a:graphicData uri="http://schemas.openxmlformats.org/drawingml/2006/table">
            <a:tbl>
              <a:tblPr/>
              <a:tblGrid>
                <a:gridCol w="1455480"/>
                <a:gridCol w="3068640"/>
                <a:gridCol w="6251760"/>
              </a:tblGrid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b9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b9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b9a"/>
                    </a:solidFill>
                  </a:tcPr>
                </a:tc>
              </a:tr>
              <a:tr h="260640"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or to first f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or 2 years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</a:tr>
              <a:tr h="260640"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or to first f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or 2 years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 inspection/calib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CAs or no ICAs - 2 or 5 years (depending on senso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</a:tr>
              <a:tr h="260640"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or to first f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or 4 years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UROCAE ED-112A and SAE 8045A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09A6-5E09-4CA8-8A6F-4B0F79ACE8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12800" y="857160"/>
          <a:ext cx="10766520" cy="4559400"/>
        </p:xfrm>
        <a:graphic>
          <a:graphicData uri="http://schemas.openxmlformats.org/drawingml/2006/table">
            <a:tbl>
              <a:tblPr/>
              <a:tblGrid>
                <a:gridCol w="1351080"/>
                <a:gridCol w="3600360"/>
                <a:gridCol w="5815080"/>
              </a:tblGrid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709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709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7090"/>
                    </a:solidFill>
                  </a:tcPr>
                </a:tc>
              </a:tr>
              <a:tr h="26064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to 2 years 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064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e-f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or 2 years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 inspection/calib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000 HRS/ 60 months (or by analysis of syst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facturer’s recommendations (M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064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or 4 year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0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B/U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 (voltage and oper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y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A Regulatory Framework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71EA-0ADC-4E8F-97E4-9CBE877412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6920" y="831960"/>
          <a:ext cx="11658600" cy="5333760"/>
        </p:xfrm>
        <a:graphic>
          <a:graphicData uri="http://schemas.openxmlformats.org/drawingml/2006/table">
            <a:tbl>
              <a:tblPr/>
              <a:tblGrid>
                <a:gridCol w="1187280"/>
                <a:gridCol w="2757600"/>
                <a:gridCol w="2592360"/>
                <a:gridCol w="2058840"/>
                <a:gridCol w="3062520"/>
              </a:tblGrid>
              <a:tr h="273600">
                <a:tc>
                  <a:txBody>
                    <a:bodyPr lIns="63360" rIns="63360" tIns="900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– NAA 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– NAA #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NAA #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</a:tr>
              <a:tr h="27396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or every 7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or 3000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or 2 years (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52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or 3000hrs (Intelligibil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or 2 years (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30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273960"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7216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or every 7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or 3000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or 2 years (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 inspection/calib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 or every 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273960"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7360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7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7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– 3000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59920"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9640">
                <a:tc rowSpan="2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B/U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y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RBR Tasks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F8CC-4B76-40BE-9B47-B5EC57BE99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5880" y="692280"/>
          <a:ext cx="11160360" cy="4717800"/>
        </p:xfrm>
        <a:graphic>
          <a:graphicData uri="http://schemas.openxmlformats.org/drawingml/2006/table">
            <a:tbl>
              <a:tblPr/>
              <a:tblGrid>
                <a:gridCol w="1187640"/>
                <a:gridCol w="2766960"/>
                <a:gridCol w="2232000"/>
                <a:gridCol w="2592360"/>
                <a:gridCol w="2381400"/>
              </a:tblGrid>
              <a:tr h="269640">
                <a:tc>
                  <a:txBody>
                    <a:bodyPr lIns="63360" rIns="63360" tIns="900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BR 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BR #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BR #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</a:tr>
              <a:tr h="26964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(O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 yea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000 flight hours (F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0 FH or 18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964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(O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000 F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0 FH or 18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 inspection/calib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964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(O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52720"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9640">
                <a:tc rowSpan="2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B/U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(O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 F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y replacement (D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4248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of Review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12" name="Content Placeholder 2" descr=""/>
          <p:cNvPicPr/>
          <p:nvPr/>
        </p:nvPicPr>
        <p:blipFill>
          <a:blip r:embed="rId1"/>
          <a:stretch/>
        </p:blipFill>
        <p:spPr>
          <a:xfrm>
            <a:off x="622440" y="1090440"/>
            <a:ext cx="10929960" cy="573732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21DF-74AC-48DA-996F-7F3E384338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of Review (cont’d)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44560" y="861840"/>
            <a:ext cx="10515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S and MSG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luence of National requirements (IP 169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trying to solve the problem of some safety/emergency equipment may not have been identified as an M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S (chapters 4 &amp; 5) and MSG-3 (2-1-2.3 &amp; 2-3-1) amended to state the development of scheduled maintenance shall not be unduly influenced by National Requirements, which was intended to mean the MSI selection process should not be influen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helped with the identification of an MSI but may have prevented task se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D137-F42F-4002-836A-0EE48A3AD6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3:52:34Z</dcterms:created>
  <dc:creator>Claude Hudon</dc:creator>
  <dc:description/>
  <cp:keywords/>
  <dc:language>en-US</dc:language>
  <cp:lastModifiedBy>Phipps, Jeff (TC/TC)</cp:lastModifiedBy>
  <cp:lastPrinted>2024-05-06T13:48:28Z</cp:lastPrinted>
  <dcterms:modified xsi:type="dcterms:W3CDTF">2024-05-06T13:52:41Z</dcterms:modified>
  <cp:revision>1486</cp:revision>
  <dc:subject/>
  <dc:title>Title of 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b5bbdc02-cb35-4d29-b911-7fc063a80903_ActionId">
    <vt:lpwstr>0a961540-c603-4f8e-ac98-b17b1266b21c</vt:lpwstr>
  </property>
  <property fmtid="{D5CDD505-2E9C-101B-9397-08002B2CF9AE}" pid="3" name="MSIP_Label_b5bbdc02-cb35-4d29-b911-7fc063a80903_ContentBits">
    <vt:lpwstr>0</vt:lpwstr>
  </property>
  <property fmtid="{D5CDD505-2E9C-101B-9397-08002B2CF9AE}" pid="4" name="MSIP_Label_b5bbdc02-cb35-4d29-b911-7fc063a80903_Enabled">
    <vt:lpwstr>true</vt:lpwstr>
  </property>
  <property fmtid="{D5CDD505-2E9C-101B-9397-08002B2CF9AE}" pid="5" name="MSIP_Label_b5bbdc02-cb35-4d29-b911-7fc063a80903_Method">
    <vt:lpwstr>Privileged</vt:lpwstr>
  </property>
  <property fmtid="{D5CDD505-2E9C-101B-9397-08002B2CF9AE}" pid="6" name="MSIP_Label_b5bbdc02-cb35-4d29-b911-7fc063a80903_Name">
    <vt:lpwstr>Unclassified (No Marking)</vt:lpwstr>
  </property>
  <property fmtid="{D5CDD505-2E9C-101B-9397-08002B2CF9AE}" pid="7" name="MSIP_Label_b5bbdc02-cb35-4d29-b911-7fc063a80903_SetDate">
    <vt:lpwstr>2023-12-05T18:44:06Z</vt:lpwstr>
  </property>
  <property fmtid="{D5CDD505-2E9C-101B-9397-08002B2CF9AE}" pid="8" name="MSIP_Label_b5bbdc02-cb35-4d29-b911-7fc063a80903_SiteId">
    <vt:lpwstr>2008ffa9-c9b2-4d97-9ad9-4ace25386be7</vt:lpwstr>
  </property>
</Properties>
</file>