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F4BA097-36DE-494A-89D5-A07625FDF69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1079640" y="693720"/>
            <a:ext cx="4851360" cy="3465360"/>
          </a:xfrm>
          <a:prstGeom prst="rect">
            <a:avLst/>
          </a:prstGeom>
          <a:ln w="0">
            <a:noFill/>
          </a:ln>
        </p:spPr>
      </p:sp>
      <p:sp>
        <p:nvSpPr>
          <p:cNvPr id="239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EA680BE-F939-4C14-BEA6-0AE17E9ED5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sldImg"/>
          </p:nvPr>
        </p:nvSpPr>
        <p:spPr>
          <a:xfrm>
            <a:off x="1079640" y="693720"/>
            <a:ext cx="4851360" cy="3465360"/>
          </a:xfrm>
          <a:prstGeom prst="rect">
            <a:avLst/>
          </a:prstGeom>
          <a:ln w="0">
            <a:noFill/>
          </a:ln>
        </p:spPr>
      </p:sp>
      <p:sp>
        <p:nvSpPr>
          <p:cNvPr id="239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47B1848-599B-4CA7-8636-17AA2290F3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1079640" y="693720"/>
            <a:ext cx="4851360" cy="3465360"/>
          </a:xfrm>
          <a:prstGeom prst="rect">
            <a:avLst/>
          </a:prstGeom>
          <a:ln w="0">
            <a:noFill/>
          </a:ln>
        </p:spPr>
      </p:sp>
      <p:sp>
        <p:nvSpPr>
          <p:cNvPr id="240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BB2C597-C109-41C6-BE21-A067197614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sldImg"/>
          </p:nvPr>
        </p:nvSpPr>
        <p:spPr>
          <a:xfrm>
            <a:off x="1079640" y="693720"/>
            <a:ext cx="4851360" cy="3465360"/>
          </a:xfrm>
          <a:prstGeom prst="rect">
            <a:avLst/>
          </a:prstGeom>
          <a:ln w="0">
            <a:noFill/>
          </a:ln>
        </p:spPr>
      </p:sp>
      <p:sp>
        <p:nvSpPr>
          <p:cNvPr id="2405"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6"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2EDD73F-89FD-4415-857B-F844152A58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1079640" y="693720"/>
            <a:ext cx="4851360" cy="3465360"/>
          </a:xfrm>
          <a:prstGeom prst="rect">
            <a:avLst/>
          </a:prstGeom>
          <a:ln w="0">
            <a:noFill/>
          </a:ln>
        </p:spPr>
      </p:sp>
      <p:sp>
        <p:nvSpPr>
          <p:cNvPr id="2408"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9"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490A2DE-8912-4292-A5CB-925F47D5BF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sldImg"/>
          </p:nvPr>
        </p:nvSpPr>
        <p:spPr>
          <a:xfrm>
            <a:off x="1079640" y="693720"/>
            <a:ext cx="4851360" cy="3465360"/>
          </a:xfrm>
          <a:prstGeom prst="rect">
            <a:avLst/>
          </a:prstGeom>
          <a:ln w="0">
            <a:noFill/>
          </a:ln>
        </p:spPr>
      </p:sp>
      <p:sp>
        <p:nvSpPr>
          <p:cNvPr id="2411"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2"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E16C0E9-6709-4CF0-9D87-7B9480CB45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F7D1-1450-4DCA-A5E1-4ABA277DA952}"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ay 13,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AHM Related CIPs</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IP MPIG 2023-07 and CIP MPIG 2024-01</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69"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0" name="Picture 47" descr="Color Logo Horz with tag.jpg"/>
          <p:cNvPicPr/>
          <p:nvPr/>
        </p:nvPicPr>
        <p:blipFill>
          <a:blip r:embed="rId1"/>
          <a:stretch/>
        </p:blipFill>
        <p:spPr>
          <a:xfrm>
            <a:off x="376200" y="5919840"/>
            <a:ext cx="2216160" cy="706320"/>
          </a:xfrm>
          <a:prstGeom prst="rect">
            <a:avLst/>
          </a:prstGeom>
          <a:ln w="0">
            <a:noFill/>
          </a:ln>
        </p:spPr>
      </p:pic>
      <p:sp>
        <p:nvSpPr>
          <p:cNvPr id="2371"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2"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3"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industry is using different aircraft health-related terminology that may lead to confusion over the level of responsibility for managing the end-to-end process of aircraft health assessment.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o support harmonization and avoid conflicting terminology, health-related wording, abbreviations, and definitions used in the MSG-3 document should be selected and agreed upon by the IMRBPB.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his CIP proposes that Integrated Aircraft Health Management (IAHM) be the terminology selected and used in the MSG-3 document going forward.</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5"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6" name="Picture 47" descr="Color Logo Horz with tag.jpg"/>
          <p:cNvPicPr/>
          <p:nvPr/>
        </p:nvPicPr>
        <p:blipFill>
          <a:blip r:embed="rId1"/>
          <a:stretch/>
        </p:blipFill>
        <p:spPr>
          <a:xfrm>
            <a:off x="376200" y="5919840"/>
            <a:ext cx="2216160" cy="706320"/>
          </a:xfrm>
          <a:prstGeom prst="rect">
            <a:avLst/>
          </a:prstGeom>
          <a:ln w="0">
            <a:noFill/>
          </a:ln>
        </p:spPr>
      </p:pic>
      <p:sp>
        <p:nvSpPr>
          <p:cNvPr id="2377"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8"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9"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Replace 84 instances of AHM with IAHM in MSG-3 Volume 1</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dd the following introductory paragraph under Section 2:</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8560" indent="-228600" algn="just">
              <a:lnSpc>
                <a:spcPct val="107000"/>
              </a:lnSpc>
              <a:spcAft>
                <a:spcPts val="7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Calibri"/>
              </a:rPr>
              <a:t>Chapter 2-1-2. IAHM Introduction</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Integrated aircraft health management (IAHM) is an end-to-end concept that encompasses aircraft systems, data transfer, and data analysis/implementation, often involving ground equipment. IAHM uses data generated by specific aircraft systems to determine condition, incipient faults, reduced resistance to failure, or degradation of function for the purpose of timely scheduling of maintenance </a:t>
            </a:r>
            <a:r>
              <a:rPr b="0" lang="en-GB" sz="1200" spc="-1" strike="noStrike">
                <a:solidFill>
                  <a:srgbClr val="2e74b5"/>
                </a:solidFill>
                <a:latin typeface="Times New Roman"/>
                <a:ea typeface="Times New Roman"/>
              </a:rPr>
              <a:t>actions.  IAHM typically includes Sensing, Acquisition, Transfer, Analysis, and Action(s) taken: "SATAA").</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 </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IAHM in aircraft maintenance has been commonly known by many terms, including:</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Health Monitoring (AHM)</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Condition Monitoring Systems (ACMS)</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 </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To avoid conflicting terminology and increase harmonization, the industry has adopted IAHM as the preferred terminology in the MSG-3 document going forward when referring to the certified for credit, end-to-end health management capability.</a:t>
            </a:r>
            <a:endParaRPr b="0" lang="en-US" sz="12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2" name="Picture 47" descr="Color Logo Horz with tag.jpg"/>
          <p:cNvPicPr/>
          <p:nvPr/>
        </p:nvPicPr>
        <p:blipFill>
          <a:blip r:embed="rId1"/>
          <a:stretch/>
        </p:blipFill>
        <p:spPr>
          <a:xfrm>
            <a:off x="376200" y="5919840"/>
            <a:ext cx="2216160" cy="706320"/>
          </a:xfrm>
          <a:prstGeom prst="rect">
            <a:avLst/>
          </a:prstGeom>
          <a:ln w="0">
            <a:noFill/>
          </a:ln>
        </p:spPr>
      </p:pic>
      <p:sp>
        <p:nvSpPr>
          <p:cNvPr id="2383"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84"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85"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When AHM was introduced in the Level 3 analysis, the industry could not agree on the appropriate terminology to use when referring to AHM alternatives to classic tasks. This CIP proposes the wording in the MSG-3 Level 1 document be revised to “IAHM application.”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gn="just">
              <a:lnSpc>
                <a:spcPct val="107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o support harmonization and avoid conflicting terminology, this CIP proposes that that a clarification paragraph be added to Section 3 and used in the MSG-3 document going forward</a:t>
            </a:r>
            <a:r>
              <a:rPr b="0" lang="en-US" sz="1800" spc="-1" strike="noStrike">
                <a:solidFill>
                  <a:srgbClr val="000000"/>
                </a:solidFill>
                <a:latin typeface="Times New Roman"/>
                <a:ea typeface="Calibri"/>
              </a:rPr>
              <a:t>.</a:t>
            </a:r>
            <a:endParaRPr b="0" lang="en-US" sz="18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7"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8" name="Picture 47" descr="Color Logo Horz with tag.jpg"/>
          <p:cNvPicPr/>
          <p:nvPr/>
        </p:nvPicPr>
        <p:blipFill>
          <a:blip r:embed="rId1"/>
          <a:stretch/>
        </p:blipFill>
        <p:spPr>
          <a:xfrm>
            <a:off x="376200" y="5919840"/>
            <a:ext cx="2216160" cy="706320"/>
          </a:xfrm>
          <a:prstGeom prst="rect">
            <a:avLst/>
          </a:prstGeom>
          <a:ln w="0">
            <a:noFill/>
          </a:ln>
        </p:spPr>
      </p:pic>
      <p:sp>
        <p:nvSpPr>
          <p:cNvPr id="2389"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90"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91"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marL="285840" indent="-285840"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Arial"/>
            </a:endParaRPr>
          </a:p>
          <a:p>
            <a:pPr lvl="1" marL="628560" indent="-342720" algn="just">
              <a:lnSpc>
                <a:spcPct val="107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Chapter 2-3-9. IAHM Candidate Analysis (Third level)</a:t>
            </a:r>
            <a:endParaRPr b="0" lang="en-US" sz="1400" spc="-1" strike="noStrike">
              <a:solidFill>
                <a:srgbClr val="000000"/>
              </a:solidFill>
              <a:latin typeface="Arial"/>
            </a:endParaRPr>
          </a:p>
          <a:p>
            <a:pPr lvl="4" marL="461880" indent="-174600" algn="just">
              <a:lnSpc>
                <a:spcPct val="115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General</a:t>
            </a:r>
            <a:endParaRPr b="0" lang="en-US" sz="13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Times New Roman"/>
                <a:ea typeface="Times New Roman"/>
              </a:rPr>
              <a:t>This section allows for the analysis of candidates proposed for the application of IAHM and provides a method for determining the dedicated IAHM applications that can be used as full or partial alternative to classic tasks.</a:t>
            </a:r>
            <a:endParaRPr b="0" lang="en-US" sz="16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IAHM Candidate category consists of the Failure Causes for which IAHM capability exists and for which a Classic task was selected following the Level 2 analysis (see definition). All IAHM candidates are processed through the logic diagram of Level 3 analysis. There are three steps associated with the logic diagram. Each step begins with an opening question intended to assess the applicability to the IAHM candidate. </a:t>
            </a:r>
            <a:endParaRPr b="0" lang="en-US" sz="1600" spc="-1" strike="noStrike">
              <a:solidFill>
                <a:srgbClr val="000000"/>
              </a:solidFill>
              <a:latin typeface="Arial"/>
            </a:endParaRPr>
          </a:p>
          <a:p>
            <a:pPr lvl="1" marL="628560" indent="-34272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2" name="Object 2" descr=""/>
          <p:cNvPicPr/>
          <p:nvPr/>
        </p:nvPicPr>
        <p:blipFill>
          <a:blip r:embed="rId1"/>
          <a:stretch/>
        </p:blipFill>
        <p:spPr>
          <a:xfrm>
            <a:off x="0" y="0"/>
            <a:ext cx="158760" cy="158760"/>
          </a:xfrm>
          <a:prstGeom prst="rect">
            <a:avLst/>
          </a:prstGeom>
          <a:ln w="0">
            <a:noFill/>
          </a:ln>
        </p:spPr>
      </p:pic>
      <p:pic>
        <p:nvPicPr>
          <p:cNvPr id="2393" name="Picture 6" descr="Color Logo Horz with tag.jpg"/>
          <p:cNvPicPr/>
          <p:nvPr/>
        </p:nvPicPr>
        <p:blipFill>
          <a:blip r:embed="rId2"/>
          <a:stretch/>
        </p:blipFill>
        <p:spPr>
          <a:xfrm>
            <a:off x="428760" y="1778040"/>
            <a:ext cx="4738680" cy="1508040"/>
          </a:xfrm>
          <a:prstGeom prst="rect">
            <a:avLst/>
          </a:prstGeom>
          <a:ln w="0">
            <a:noFill/>
          </a:ln>
        </p:spPr>
      </p:pic>
      <p:sp>
        <p:nvSpPr>
          <p:cNvPr id="2394"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althall, Rhonda          Collins</cp:lastModifiedBy>
  <cp:lastPrinted>2011-09-01T13:01:47Z</cp:lastPrinted>
  <dcterms:modified xsi:type="dcterms:W3CDTF">2024-04-16T15:03:47Z</dcterms:modified>
  <cp:revision>1376</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83BBF4F800E2154CAE59A8BE77B07D49</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Order">
    <vt:lpwstr>33800.0000000000</vt:lpwstr>
  </property>
  <property fmtid="{D5CDD505-2E9C-101B-9397-08002B2CF9AE}" pid="9" name="Status">
    <vt:lpwstr/>
  </property>
  <property fmtid="{D5CDD505-2E9C-101B-9397-08002B2CF9AE}" pid="10" name="Template Name">
    <vt:lpwstr>Letter</vt:lpwstr>
  </property>
  <property fmtid="{D5CDD505-2E9C-101B-9397-08002B2CF9AE}" pid="11" name="TemplateUrl">
    <vt:lpwstr/>
  </property>
  <property fmtid="{D5CDD505-2E9C-101B-9397-08002B2CF9AE}" pid="12" name="TitusGUID">
    <vt:lpwstr>0bce85b1-ee2a-46af-b0ae-f3b8a99a3770</vt:lpwstr>
  </property>
  <property fmtid="{D5CDD505-2E9C-101B-9397-08002B2CF9AE}" pid="13" name="URL">
    <vt:lpwstr/>
  </property>
  <property fmtid="{D5CDD505-2E9C-101B-9397-08002B2CF9AE}" pid="14" name="Version">
    <vt:lpwstr>20100310</vt:lpwstr>
  </property>
  <property fmtid="{D5CDD505-2E9C-101B-9397-08002B2CF9AE}" pid="15" name="_SharedFileIndex">
    <vt:lpwstr/>
  </property>
  <property fmtid="{D5CDD505-2E9C-101B-9397-08002B2CF9AE}" pid="16" name="_SourceUrl">
    <vt:lpwstr/>
  </property>
  <property fmtid="{D5CDD505-2E9C-101B-9397-08002B2CF9AE}" pid="17" name="_dlc_DocId">
    <vt:lpwstr>6A7AYNEQ7WMH-587465438-2683</vt:lpwstr>
  </property>
  <property fmtid="{D5CDD505-2E9C-101B-9397-08002B2CF9AE}" pid="18" name="_dlc_DocIdItemGuid">
    <vt:lpwstr>5b2115ab-ce6f-424a-9e5e-724833ac2d8a</vt:lpwstr>
  </property>
  <property fmtid="{D5CDD505-2E9C-101B-9397-08002B2CF9AE}" pid="19" name="_dlc_DocIdUrl">
    <vt:lpwstr>https://portal.airlines.org/os/emmc/mpig/_layouts/15/DocIdRedir.aspx?ID=6A7AYNEQ7WMH-587465438-2683, 6A7AYNEQ7WMH-587465438-2683</vt:lpwstr>
  </property>
  <property fmtid="{D5CDD505-2E9C-101B-9397-08002B2CF9AE}" pid="20" name="display_urn:schemas-microsoft-com:office:office#Author">
    <vt:lpwstr>Conn, Paul</vt:lpwstr>
  </property>
  <property fmtid="{D5CDD505-2E9C-101B-9397-08002B2CF9AE}" pid="21" name="display_urn:schemas-microsoft-com:office:office#Editor">
    <vt:lpwstr>Conn, Paul</vt:lpwstr>
  </property>
  <property fmtid="{D5CDD505-2E9C-101B-9397-08002B2CF9AE}" pid="22" name="xd_ProgID">
    <vt:lpwstr/>
  </property>
</Properties>
</file>