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C9D5437-A5A1-43D9-801C-8588C9BAE2E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079640" y="693720"/>
            <a:ext cx="4851360" cy="3465360"/>
          </a:xfrm>
          <a:prstGeom prst="rect">
            <a:avLst/>
          </a:prstGeom>
          <a:ln w="0">
            <a:noFill/>
          </a:ln>
        </p:spPr>
      </p:sp>
      <p:sp>
        <p:nvSpPr>
          <p:cNvPr id="2404"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2EECE0-1DF2-41C1-B1B4-DACFAA6FB8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079640" y="693720"/>
            <a:ext cx="4851360" cy="3465360"/>
          </a:xfrm>
          <a:prstGeom prst="rect">
            <a:avLst/>
          </a:prstGeom>
          <a:ln w="0">
            <a:noFill/>
          </a:ln>
        </p:spPr>
      </p:sp>
      <p:sp>
        <p:nvSpPr>
          <p:cNvPr id="2407"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08964B7-4FE9-454B-9191-62978B2DC7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79640" y="693720"/>
            <a:ext cx="4851360" cy="3465360"/>
          </a:xfrm>
          <a:prstGeom prst="rect">
            <a:avLst/>
          </a:prstGeom>
          <a:ln w="0">
            <a:noFill/>
          </a:ln>
        </p:spPr>
      </p:sp>
      <p:sp>
        <p:nvSpPr>
          <p:cNvPr id="2410"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80DB2BD-7188-4A2C-A88F-BE7B283164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079640" y="693720"/>
            <a:ext cx="4851360" cy="3465360"/>
          </a:xfrm>
          <a:prstGeom prst="rect">
            <a:avLst/>
          </a:prstGeom>
          <a:ln w="0">
            <a:noFill/>
          </a:ln>
        </p:spPr>
      </p:sp>
      <p:sp>
        <p:nvSpPr>
          <p:cNvPr id="2413"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953093A-CC2A-4C34-8291-F5CF5B864C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079640" y="693720"/>
            <a:ext cx="4851360" cy="3465360"/>
          </a:xfrm>
          <a:prstGeom prst="rect">
            <a:avLst/>
          </a:prstGeom>
          <a:ln w="0">
            <a:noFill/>
          </a:ln>
        </p:spPr>
      </p:sp>
      <p:sp>
        <p:nvSpPr>
          <p:cNvPr id="241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D046106-F40C-43A7-AAD3-50DE0DEE0A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079640" y="693720"/>
            <a:ext cx="4851360" cy="3465360"/>
          </a:xfrm>
          <a:prstGeom prst="rect">
            <a:avLst/>
          </a:prstGeom>
          <a:ln w="0">
            <a:noFill/>
          </a:ln>
        </p:spPr>
      </p:sp>
      <p:sp>
        <p:nvSpPr>
          <p:cNvPr id="241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231A907-E9B5-41AB-A984-CB8A42AE55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079640" y="693720"/>
            <a:ext cx="4851360" cy="3465360"/>
          </a:xfrm>
          <a:prstGeom prst="rect">
            <a:avLst/>
          </a:prstGeom>
          <a:ln w="0">
            <a:noFill/>
          </a:ln>
        </p:spPr>
      </p:sp>
      <p:sp>
        <p:nvSpPr>
          <p:cNvPr id="242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076337-D47B-42B9-92C8-9EAE65A7BF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A9B8-2FEB-4418-A0E3-D3E9AAFFE875}"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Jan XX,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CIP IND 2023-01 - Remote Visual Inspection (RVI)</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8" name="Group 43"/>
          <p:cNvGrpSpPr/>
          <p:nvPr/>
        </p:nvGrpSpPr>
        <p:grpSpPr>
          <a:xfrm>
            <a:off x="227160" y="-208080"/>
            <a:ext cx="8993160" cy="6834240"/>
            <a:chOff x="227160" y="-208080"/>
            <a:chExt cx="8993160" cy="6834240"/>
          </a:xfrm>
        </p:grpSpPr>
        <p:sp>
          <p:nvSpPr>
            <p:cNvPr id="2369"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kground</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0"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2" name="Picture 47" descr="Color Logo Horz with tag.jpg"/>
            <p:cNvPicPr/>
            <p:nvPr/>
          </p:nvPicPr>
          <p:blipFill>
            <a:blip r:embed="rId1"/>
            <a:stretch/>
          </p:blipFill>
          <p:spPr>
            <a:xfrm>
              <a:off x="376560" y="5920920"/>
              <a:ext cx="2215800" cy="705240"/>
            </a:xfrm>
            <a:prstGeom prst="rect">
              <a:avLst/>
            </a:prstGeom>
            <a:ln w="0">
              <a:noFill/>
            </a:ln>
          </p:spPr>
        </p:pic>
      </p:grpSp>
      <p:pic>
        <p:nvPicPr>
          <p:cNvPr id="2373" name="Subtitle 2" descr=""/>
          <p:cNvPicPr/>
          <p:nvPr/>
        </p:nvPicPr>
        <p:blipFill>
          <a:blip r:embed="rId2"/>
          <a:stretch/>
        </p:blipFill>
        <p:spPr>
          <a:xfrm>
            <a:off x="311040" y="1212840"/>
            <a:ext cx="8802720" cy="4267080"/>
          </a:xfrm>
          <a:prstGeom prst="rect">
            <a:avLst/>
          </a:prstGeom>
          <a:ln w="0">
            <a:noFill/>
          </a:ln>
        </p:spPr>
      </p:pic>
      <p:sp>
        <p:nvSpPr>
          <p:cNvPr id="2374" name="Textfeld 8"/>
          <p:cNvSpPr/>
          <p:nvPr/>
        </p:nvSpPr>
        <p:spPr>
          <a:xfrm>
            <a:off x="623880" y="1251000"/>
            <a:ext cx="835344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PIG presented “CIP IND 2023-01 - Include the use of Remote Visual Inspection (RVI) definition” during last PB in Cologn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IP intended to be simple progress step promoting GVR by adding the CSDD GVR definition to the glossary . </a:t>
            </a:r>
            <a:endParaRPr b="0" lang="en-US" sz="18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oling equivalency/qualification are typically defined by OEM (e.g. in their documentation/manual system) not within MSG3 analyses.</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does generally support the introduction of “visual aids” in the context of visual inspection.</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position is however, that the introduction of such principles into the MSG-3 document requires more detail on the application handling (e.g. how a GVR is selected in the actual MSG-3 procedur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5" name="Group 43"/>
          <p:cNvGrpSpPr/>
          <p:nvPr/>
        </p:nvGrpSpPr>
        <p:grpSpPr>
          <a:xfrm>
            <a:off x="227160" y="-208080"/>
            <a:ext cx="8993160" cy="6834240"/>
            <a:chOff x="227160" y="-208080"/>
            <a:chExt cx="8993160" cy="6834240"/>
          </a:xfrm>
        </p:grpSpPr>
        <p:sp>
          <p:nvSpPr>
            <p:cNvPr id="2376"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PIG sub-team has reviewed the IMRBPB feedback</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8"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9"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0"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2" marL="1143000" indent="-228600">
              <a:spcBef>
                <a:spcPts val="300"/>
              </a:spcBef>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end the GVI definition in the glossary to recognize the option for GVR.</a:t>
            </a:r>
            <a:endParaRPr b="0" lang="en-US" sz="16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 an impact assessment of - from a specialist’s perspective - for remote visual inspection within the logic considering the following: </a:t>
            </a:r>
            <a:endParaRPr b="0" lang="en-US" sz="16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ow will the logic be applied to present, consider or select this alternativ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GVR best referred to as an alternative to existing task types versus a new task typ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e alternative be limited to GVI task types?</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standard equivalency criteria (e.g. camera resolution minimums, lighting level…) be considered to guide the selection of such inspection aid?</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this or other guidance support field inspectors and operators requests for approval?</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is be addressed within the MSG4 propos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1" name="Group 43"/>
          <p:cNvGrpSpPr/>
          <p:nvPr/>
        </p:nvGrpSpPr>
        <p:grpSpPr>
          <a:xfrm>
            <a:off x="227160" y="-208080"/>
            <a:ext cx="8993160" cy="6834240"/>
            <a:chOff x="227160" y="-208080"/>
            <a:chExt cx="8993160" cy="6834240"/>
          </a:xfrm>
        </p:grpSpPr>
        <p:sp>
          <p:nvSpPr>
            <p:cNvPr id="2382"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4"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5"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6"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fontScale="7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seems that our current discussions are mixing up intent with means. The depth of the inspection, or the technique required to detect the failure/degradation is what determines the level of inspection, not the tool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SG-3 analysis does define the ICA (what needs to be inspected at what level and interv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tails on the task performance (in particular on potential tools used) will typically not be available at the time of the W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group further concluded that RGVI is not a new task type but a technique used when performing an GVI level inspection.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is therefor not considered practical to incorporate RGVI in the MSG-3 analysis procedure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rding to the group position, there are principally two option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GVI definition in the glossary to allow the use of visual aids on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t>
            </a:r>
            <a:endParaRPr b="0" lang="en-US" sz="1600" spc="-1" strike="noStrike">
              <a:solidFill>
                <a:srgbClr val="000000"/>
              </a:solidFill>
              <a:latin typeface="Arial"/>
            </a:endParaRPr>
          </a:p>
          <a:p>
            <a:pPr>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the GVI, DET and SDI definitions </a:t>
            </a:r>
            <a:endParaRPr b="0" lang="en-US" sz="1600" spc="-1" strike="noStrike">
              <a:solidFill>
                <a:srgbClr val="000000"/>
              </a:solidFill>
              <a:latin typeface="Arial"/>
            </a:endParaRPr>
          </a:p>
          <a:p>
            <a:pPr lvl="1" marL="35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172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0a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GVI procedure will be defined in subsequent process to MSG-3</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7" name="Group 43"/>
          <p:cNvGrpSpPr/>
          <p:nvPr/>
        </p:nvGrpSpPr>
        <p:grpSpPr>
          <a:xfrm>
            <a:off x="227160" y="-208080"/>
            <a:ext cx="8993160" cy="6834240"/>
            <a:chOff x="227160" y="-208080"/>
            <a:chExt cx="8993160" cy="6834240"/>
          </a:xfrm>
        </p:grpSpPr>
        <p:sp>
          <p:nvSpPr>
            <p:cNvPr id="2388"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considerations</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0"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1"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2"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one would consider the FAA AC 43.12-1B, all contents under 'Visual Inspection' would fit into GVI, DET.</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drones or borescopes, for example, for GVIs, wouldn't be affected within MSG-3 if we adjust the definitions based on the FAA AC.</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MM task would list what are the possible means to comply with the task, to close the loop in terms of what the OEM approves in the AMM (Operators can always grant AMOCs).</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ethod of compliance needs to meet the equivalency 'criteria’.</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history background on visual aids use in inspection should be presented to the PB in May (e.g. SDI versus GVI on borescope use) to support the CIP.</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3" name="Group 43"/>
          <p:cNvGrpSpPr/>
          <p:nvPr/>
        </p:nvGrpSpPr>
        <p:grpSpPr>
          <a:xfrm>
            <a:off x="227160" y="-208080"/>
            <a:ext cx="8993160" cy="6834240"/>
            <a:chOff x="227160" y="-208080"/>
            <a:chExt cx="8993160" cy="6834240"/>
          </a:xfrm>
        </p:grpSpPr>
        <p:sp>
          <p:nvSpPr>
            <p:cNvPr id="2394"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6"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7"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8"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hort term: create a CIP to make changes to the GVI definition to clarify that remote inspections are allowed.</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tentially mid-term: Work with the (PB) initiative that is developing a revision to inspection level definition of GVI, DET and SDI (further to older IPs 117 and 122) and to ensure that the MSG-4 sub group is are aware of our direction to remove means from the definitions.</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9" name="Object 2" descr=""/>
          <p:cNvPicPr/>
          <p:nvPr/>
        </p:nvPicPr>
        <p:blipFill>
          <a:blip r:embed="rId1"/>
          <a:stretch/>
        </p:blipFill>
        <p:spPr>
          <a:xfrm>
            <a:off x="0" y="0"/>
            <a:ext cx="158760" cy="158760"/>
          </a:xfrm>
          <a:prstGeom prst="rect">
            <a:avLst/>
          </a:prstGeom>
          <a:ln w="0">
            <a:noFill/>
          </a:ln>
        </p:spPr>
      </p:pic>
      <p:pic>
        <p:nvPicPr>
          <p:cNvPr id="2400" name="Picture 6" descr="Color Logo Horz with tag.jpg"/>
          <p:cNvPicPr/>
          <p:nvPr/>
        </p:nvPicPr>
        <p:blipFill>
          <a:blip r:embed="rId2"/>
          <a:stretch/>
        </p:blipFill>
        <p:spPr>
          <a:xfrm>
            <a:off x="428760" y="1778040"/>
            <a:ext cx="4738680" cy="1508040"/>
          </a:xfrm>
          <a:prstGeom prst="rect">
            <a:avLst/>
          </a:prstGeom>
          <a:ln w="0">
            <a:noFill/>
          </a:ln>
        </p:spPr>
      </p:pic>
      <p:sp>
        <p:nvSpPr>
          <p:cNvPr id="2401"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2" name="Rectangle 4"/>
          <p:cNvSpPr/>
          <p:nvPr/>
        </p:nvSpPr>
        <p:spPr>
          <a:xfrm>
            <a:off x="2195640" y="3963960"/>
            <a:ext cx="7240320" cy="126216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Arial"/>
              </a:rPr>
              <a:t>Does the MPIG agree and support the direction proposed by the sub-team?</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ENK Lorenz</cp:lastModifiedBy>
  <cp:lastPrinted>2011-09-01T13:01:47Z</cp:lastPrinted>
  <dcterms:modified xsi:type="dcterms:W3CDTF">2024-01-25T16:59:13Z</dcterms:modified>
  <cp:revision>1430</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3E3A805D396507419C6ADBFAECF1DE24</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Issue">
    <vt:lpwstr/>
  </property>
  <property fmtid="{D5CDD505-2E9C-101B-9397-08002B2CF9AE}" pid="9" name="Order">
    <vt:r8>400</vt:r8>
  </property>
  <property fmtid="{D5CDD505-2E9C-101B-9397-08002B2CF9AE}" pid="10" name="Status">
    <vt:lpwstr/>
  </property>
  <property fmtid="{D5CDD505-2E9C-101B-9397-08002B2CF9AE}" pid="11" name="Template Name">
    <vt:lpwstr>Letter</vt:lpwstr>
  </property>
  <property fmtid="{D5CDD505-2E9C-101B-9397-08002B2CF9AE}" pid="12" name="Version">
    <vt:lpwstr>20100310</vt:lpwstr>
  </property>
</Properties>
</file>