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2D2B912B-9B97-4339-A399-4EB49028DCD2}" type="datetime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61560" rIns="61560" tIns="30960" bIns="30960" anchor="b">
            <a:noAutofit/>
          </a:bodyPr>
          <a:lstStyle>
            <a:lvl1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615960"/>
                <a:tab algn="l" pos="1231920"/>
                <a:tab algn="l" pos="1847880"/>
                <a:tab algn="l" pos="2463840"/>
                <a:tab algn="l" pos="3079800"/>
                <a:tab algn="l" pos="3695760"/>
                <a:tab algn="l" pos="4311720"/>
                <a:tab algn="l" pos="4927680"/>
                <a:tab algn="l" pos="5543640"/>
                <a:tab algn="l" pos="6159600"/>
                <a:tab algn="l" pos="6775560"/>
                <a:tab algn="l" pos="7391520"/>
                <a:tab algn="l" pos="8007480"/>
                <a:tab algn="l" pos="8623440"/>
                <a:tab algn="l" pos="9239400"/>
                <a:tab algn="l" pos="9855360"/>
                <a:tab algn="l" pos="10471320"/>
              </a:tabLst>
            </a:pPr>
            <a:fld id="{8B86D08B-593F-4765-A538-9A7BD336F015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8ECC7E3E-B128-43FC-A714-B949C831ABE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5C480D83-93B0-42CA-8D63-BB0685A4067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753AB66E-8E61-41D0-B613-C88AD9906D1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93555E3B-53BE-4BA5-914B-50AC4CAF66C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537A45B9-A058-4250-9E22-BF720763682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3931DE74-2D1E-41FC-B41B-6AF532B2ED7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57D70AEF-1163-4061-971A-FB8F8D6A5136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6040986A-0B21-44A2-A52E-7AF216E51702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131C6C47-D3EF-4F33-95F6-6EBB8C1B9EDC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8A8002F9-BBBF-4FE2-A2B8-23226904B4E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A93213B4-C852-41AC-8A7E-DA755C7A88A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499293D8-C0D2-4C4C-92AE-9D481038BC7D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E11EB618-F564-41B4-BC89-747048A7F7C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960" bIns="30960" anchor="b">
            <a:noAutofit/>
          </a:bodyPr>
          <a:p>
            <a:pPr algn="r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fld id="{B6218E58-E03F-45F1-9852-8C8F9656FE4E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E5C-7C4B-45B6-A7F8-34ED1AF4F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D44-7E0D-454C-843F-0D599CB2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6A0-57E6-4C7A-9677-012D9205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7DE-52F3-4788-9E19-D61ED5C7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BF76-A0C2-4FE0-BE9D-13E7FF45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352A-E5D4-48DB-BF36-0732549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EC67-0F2A-49E3-9DCB-25B40CA3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7016-3430-40CD-9D04-13FD451A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97CB-5ADF-4C1E-BA99-11F87548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319E-A0B5-4518-B1E2-89E4DBF8A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0E8D-AEF9-4EDC-AAD5-58849C4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8420-7C7E-4D3B-99E9-AB9CBE2C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A435-B6EA-40E6-A4B1-8965927E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6AB5-C417-47C4-8099-63F557390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E2E5-EC12-4715-94DA-8435E2CE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DA80-B999-421D-8C6B-02267880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B41-96B5-45A9-849B-51B1E8A1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5144-93DF-4329-8546-421EEC35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6358-7B2E-46D2-A1BA-940690B8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39DF-FC1B-4D06-9973-B63A5A20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56C6-521A-4646-BD8B-C1B1F9C2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74EA-EA22-410A-B39E-3A6B56DC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AA4-5DB7-476A-8513-89A1483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3AE3-E002-463A-878A-275B785D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B50-92DF-43AC-94B9-99518AFF4157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459A-8B95-4D6A-8509-24C7844BCF2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2848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3B99-A585-4772-A56C-196F1147C500}" type="datetime">
              <a:rPr b="0" lang="en-CA" sz="1000" spc="-1" strike="noStrike">
                <a:solidFill>
                  <a:srgbClr val="898989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28488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16288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0F0C-9F7B-495D-B252-722A744367D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9520" y="115560"/>
            <a:ext cx="986472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IMRBPB Annual Meeting (IAM) </a:t>
            </a: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Action Item 2023-03</a:t>
            </a:r>
            <a:br>
              <a:rPr sz="3500"/>
            </a:br>
            <a:br>
              <a:rPr sz="3500"/>
            </a:br>
            <a:r>
              <a:rPr b="1" lang="en-CA" sz="3500" spc="-1" strike="noStrike">
                <a:solidFill>
                  <a:srgbClr val="000000"/>
                </a:solidFill>
                <a:latin typeface="Arial"/>
              </a:rPr>
              <a:t>May 17, 2024</a:t>
            </a:r>
            <a:endParaRPr b="1" lang="en-US" sz="35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79160" y="2852280"/>
            <a:ext cx="95742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ed by Jeffrey Phip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ef, Operational Airworth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s Branch, Transport Canada Civil Aviation (TC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5016600" y="6237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IMS #202940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234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41160" y="981000"/>
            <a:ext cx="109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MSG-3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Even if functional failures (evident or hidden) are identified, lack of direct adverse effect to safe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E.g., prevent the continued safe flight and la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efinition of safety/emergency systems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Flight data recorders do not enhance aircraft evacuation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When failed, does not have an adverse effect on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Does not consider other functions of recorder or equip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PMingLiU"/>
              </a:rPr>
              <a:t>Such as, data integrity, data preservation, use for accident/incident investigation and associated recommendations, and 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Current MSG-3 task selection is not aligned with typical tasks associated with recorder system maintenance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08AD-59F0-4F87-A7DE-08A47058AC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Option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717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A’s have a responsibility to establish/maintain national requirements inline with ICAO and industr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, Operational Check, and Recording insp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re if all NAAs follow ICAO requirements or if they have filed a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end MSG-3 to ensure systems/equipment used for accident/incident investigation and SAR purposes are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definitions such as safety (adverse effect), direct adverse effect on operating safety, safety/emergency systems or equipment and M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n logic diagram and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elop new analysis to address systems/equipment used for accident/incident investigation and SAR purposes, which may include flight recorders (FDR/CVR/DLR), ULD, and distress transmitters such as ELT and GAD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7CA4-91CD-4485-9A11-556409253A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- New logic in MSG-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definitions required to address systems/equipment used for accident/incident investigation and search and rescue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logic analysis to consid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ing, data accuracy, integrity/preservation, location transmissions, as part of the analysis procedure (Functions, functional failures, failure effects, failure cause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maintenance standards need to also be considered (type of task, intervals, how to perfor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re would it fit into MSG-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 of current MSI sele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dicated MSI item? [e.g., MSI-AI (accident-investigation)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art of 2.3 Aircraft Systems/Powerplant analysis proced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2.7 after L/HIRF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F2CC-9809-4AFD-83CB-6C69DECDAB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on 3 – Road Map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47800" y="906120"/>
            <a:ext cx="10515600" cy="55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 examples of analysis for these systems (next 6 months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examples and draft CIP (March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draft CIP out for review (April 2025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 CIP based on comments received following 2025 IAM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nd submit final version of the CIP (February  2026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IP during 2026 I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426C-199F-4CD7-B550-D0E7273C86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30" name="Content Placeholder 4" descr=""/>
          <p:cNvPicPr/>
          <p:nvPr/>
        </p:nvPicPr>
        <p:blipFill>
          <a:blip r:embed="rId1"/>
          <a:stretch/>
        </p:blipFill>
        <p:spPr>
          <a:xfrm>
            <a:off x="4776840" y="1690560"/>
            <a:ext cx="2638440" cy="255276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DFBC-6F46-437C-A786-738DB20A6C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25200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on Item (AI) 2023-03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5160" y="2133360"/>
            <a:ext cx="1080144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TCCA to develop a new regulatory CIP to cover the FDR/CVR issue related to AI 2019-06 and AI 2019-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tent: to amend MSG-3 to accommodate safety related system to produce tasks to maintain integrity of such systems (e.g. FDR, CVR, DLR, ULB/D, and EL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1E67-EDA6-4155-9A63-209ABDCFFE3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208080"/>
            <a:ext cx="10515600" cy="91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ight Recorder System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95160" y="1777680"/>
            <a:ext cx="1080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PMingLiU"/>
              </a:rPr>
              <a:t>Review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CAO SAR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Indust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NAA regulatory framewor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  <a:ea typeface="PMingLiU"/>
              </a:rPr>
              <a:t>MRB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E606-1B72-4C7E-9CAB-51B0100092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CAO Annex 6 and Doc 10104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08120" y="4624560"/>
            <a:ext cx="1108872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cording Inspec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V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 from each aircraft source and relevant external sources shall be carried out by replay to verify that all required signals meet intelligibility standar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D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data, in engineering units, to evaluate the validity of all recorded parame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L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and examination of recorded messages shall be carried out by repl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ULB/UL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SARP on maintenance. DOC 10104 recommends following manufacturer’s recommenda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F9E0-CC80-49E5-A7A7-46F2413D12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08120" y="639720"/>
          <a:ext cx="10775880" cy="3865680"/>
        </p:xfrm>
        <a:graphic>
          <a:graphicData uri="http://schemas.openxmlformats.org/drawingml/2006/table">
            <a:tbl>
              <a:tblPr/>
              <a:tblGrid>
                <a:gridCol w="1455480"/>
                <a:gridCol w="3068640"/>
                <a:gridCol w="6251760"/>
              </a:tblGrid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b9a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CAs or no ICAs - 2 or 5 years (depending on senso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ad1d2"/>
                    </a:solidFill>
                  </a:tcPr>
                </a:tc>
              </a:tr>
              <a:tr h="26064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or to first 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4d3d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ROCAE ED-112A and SAE 8045A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56E6-6F5B-4AFC-A304-A06373FAB9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12800" y="857160"/>
          <a:ext cx="10766520" cy="4559400"/>
        </p:xfrm>
        <a:graphic>
          <a:graphicData uri="http://schemas.openxmlformats.org/drawingml/2006/table">
            <a:tbl>
              <a:tblPr/>
              <a:tblGrid>
                <a:gridCol w="1351080"/>
                <a:gridCol w="3600360"/>
                <a:gridCol w="5815080"/>
              </a:tblGrid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7090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to 2 years 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e-fl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 or 2 years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000 HRS/ 60 months (or by analysis of syst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facturer’s recommendations (M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 or 4 year (depending on 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43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0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(voltage and operat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A Regulatory Framework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8FCE-59E2-4172-A135-D421AFD3C2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6920" y="831960"/>
          <a:ext cx="11658600" cy="5333760"/>
        </p:xfrm>
        <a:graphic>
          <a:graphicData uri="http://schemas.openxmlformats.org/drawingml/2006/table">
            <a:tbl>
              <a:tblPr/>
              <a:tblGrid>
                <a:gridCol w="1187280"/>
                <a:gridCol w="2757600"/>
                <a:gridCol w="2592360"/>
                <a:gridCol w="2058840"/>
                <a:gridCol w="3062520"/>
              </a:tblGrid>
              <a:tr h="27360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– NAA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NAA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a9b82"/>
                    </a:solidFill>
                  </a:tcPr>
                </a:tc>
              </a:tr>
              <a:tr h="2739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52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 (Intelligibil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216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or every 7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30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or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or 2 years (system integrit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 or every 5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</a:tr>
              <a:tr h="27396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7360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72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– 3000h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599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e5dc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RBR Tasks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7B7C-9983-49D1-A829-40398C6BC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5880" y="692280"/>
          <a:ext cx="11160360" cy="4717800"/>
        </p:xfrm>
        <a:graphic>
          <a:graphicData uri="http://schemas.openxmlformats.org/drawingml/2006/table">
            <a:tbl>
              <a:tblPr/>
              <a:tblGrid>
                <a:gridCol w="1187640"/>
                <a:gridCol w="2766960"/>
                <a:gridCol w="2232000"/>
                <a:gridCol w="2592360"/>
                <a:gridCol w="2381400"/>
              </a:tblGrid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844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9080"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BR #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6a6c1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year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light hours (F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0 FH or 18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r inspection/calib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4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L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rding Insp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ha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52720"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fbabb"/>
                    </a:solidFill>
                  </a:tcPr>
                </a:tc>
              </a:tr>
              <a:tr h="269640">
                <a:tc rowSpan="2"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B/U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(OP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 F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  <a:tr h="269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360" rIns="6336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ery replacement (D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6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248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pic>
        <p:nvPicPr>
          <p:cNvPr id="112" name="Content Placeholder 2" descr=""/>
          <p:cNvPicPr/>
          <p:nvPr/>
        </p:nvPicPr>
        <p:blipFill>
          <a:blip r:embed="rId1"/>
          <a:stretch/>
        </p:blipFill>
        <p:spPr>
          <a:xfrm>
            <a:off x="622440" y="1090440"/>
            <a:ext cx="10929960" cy="573732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0AE5-EC38-4F09-9938-CB1D0CDC7A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10515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ults of Review (cont’d)</a:t>
            </a:r>
            <a:endParaRPr b="1" lang="en-US" sz="4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44560" y="861840"/>
            <a:ext cx="105156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S and MSG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luence of National requirements (IP 169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rying to solve the problem of some safety/emergency equipment may not have been identified as an M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S (chapters 4 &amp; 5) and MSG-3 (2-1-2.3 &amp; 2-3-1) amended to state the development of scheduled maintenance shall not be unduly influenced by National Requirements, which was intended to mean the MSI selection process should not be influen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helped with the identification of an MSI but may have prevented task sel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11163240" y="6284880"/>
            <a:ext cx="677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3E0B-DDD9-413C-89B6-0D2EE27247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3:52:34Z</dcterms:created>
  <dc:creator>Claude Hudon</dc:creator>
  <dc:description/>
  <cp:keywords/>
  <dc:language>en-US</dc:language>
  <cp:lastModifiedBy>Phipps, Jeff (TC/TC)</cp:lastModifiedBy>
  <cp:lastPrinted>2024-05-06T13:48:28Z</cp:lastPrinted>
  <dcterms:modified xsi:type="dcterms:W3CDTF">2024-05-06T13:52:41Z</dcterms:modified>
  <cp:revision>1486</cp:revision>
  <dc:subject/>
  <dc:title>Title of 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b5bbdc02-cb35-4d29-b911-7fc063a80903_ActionId">
    <vt:lpwstr>0a961540-c603-4f8e-ac98-b17b1266b21c</vt:lpwstr>
  </property>
  <property fmtid="{D5CDD505-2E9C-101B-9397-08002B2CF9AE}" pid="3" name="MSIP_Label_b5bbdc02-cb35-4d29-b911-7fc063a80903_ContentBits">
    <vt:lpwstr>0</vt:lpwstr>
  </property>
  <property fmtid="{D5CDD505-2E9C-101B-9397-08002B2CF9AE}" pid="4" name="MSIP_Label_b5bbdc02-cb35-4d29-b911-7fc063a80903_Enabled">
    <vt:lpwstr>true</vt:lpwstr>
  </property>
  <property fmtid="{D5CDD505-2E9C-101B-9397-08002B2CF9AE}" pid="5" name="MSIP_Label_b5bbdc02-cb35-4d29-b911-7fc063a80903_Method">
    <vt:lpwstr>Privileged</vt:lpwstr>
  </property>
  <property fmtid="{D5CDD505-2E9C-101B-9397-08002B2CF9AE}" pid="6" name="MSIP_Label_b5bbdc02-cb35-4d29-b911-7fc063a80903_Name">
    <vt:lpwstr>Unclassified (No Marking)</vt:lpwstr>
  </property>
  <property fmtid="{D5CDD505-2E9C-101B-9397-08002B2CF9AE}" pid="7" name="MSIP_Label_b5bbdc02-cb35-4d29-b911-7fc063a80903_SetDate">
    <vt:lpwstr>2023-12-05T18:44:06Z</vt:lpwstr>
  </property>
  <property fmtid="{D5CDD505-2E9C-101B-9397-08002B2CF9AE}" pid="8" name="MSIP_Label_b5bbdc02-cb35-4d29-b911-7fc063a80903_SiteId">
    <vt:lpwstr>2008ffa9-c9b2-4d97-9ad9-4ace25386be7</vt:lpwstr>
  </property>
</Properties>
</file>