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D17D3037-10F3-4CB8-872C-A1E4968A78C0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36EE7D59-3303-4B24-8C1F-90908E7C97E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43BA323-44B5-43D2-9D4D-A8FD78DAACD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9A2DD581-63DE-42D1-9970-38CC2D59E0E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89C37D5A-CA3B-493E-923A-2DBC662FF26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7A01881E-0C5E-4FBE-9F7F-4D641CB4A03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1566F169-2DF5-4F0E-8EEF-884A887EB0A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154D5199-1A59-4780-BDDB-72C963EBAEE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CE910A90-E7B8-4142-BB22-00BC730D984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1D6F7A7A-7284-4A91-B356-FE2E2E3D6A0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A88E718C-9C9C-492E-93B7-A1774B1B57D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40986A65-8B24-437B-A3EC-9C701B96C50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DB230A64-DB54-4F01-9A03-9AC742C7085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2D61D37-850C-415B-AE27-F36CDD08E46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30FD850E-8B2A-4A0C-A6B3-A03D5FA6B25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B56C4A8-DDE7-4F97-A0C5-9DAAE39D227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B2A-06FC-4DC0-A927-6118D3EA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CE6-9621-4BF3-8553-3DA656C2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99A-5B11-48B7-93AA-8190C1D7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512-1CAF-4533-8C64-4C7E2DAB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57C0-0450-4430-9CDB-2614EA39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4A8F-0C76-4711-964A-7ED4FF0B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5F78-5FF6-43CD-87E1-1C1B033A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5EA2-C8F5-4B81-A799-CC4EE18D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E4A0-331C-44C2-9656-53CB2674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538A-E13B-4448-B165-A142B4A6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70E7-78E3-49E9-AC06-560E7047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E43-2A3E-43E0-923E-6F5284BF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A7FB-6AE2-4FF4-AD06-96DABBE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7F5F-0CA5-4222-A351-9D187D0E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4C46-07AE-40B2-ACD2-D1E40A21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6EE8-76B8-47A9-8572-3BB44A67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0149-534D-4E4C-82C1-FEE647FB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D6F-488A-4725-B2D9-D294CAA8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C43-5FBA-4CFD-9C36-0E6CAB38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D11-F809-492D-B6E9-FE07403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784-4992-4221-B525-81F663F1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300-930B-4AB1-B1EE-8408601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1EC-8C33-4C97-80CF-F1B947F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AF2-1B26-4701-9896-49940586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84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5591-CA6D-4C0B-8CA7-68556DD0F99E}" type="datetime">
              <a:rPr b="0" lang="en-CA" sz="10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848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6288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33E-607A-4B1D-A4B5-FD9336D57CA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84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1CCC-1499-43A6-921C-DE6DDF90B5FE}" type="datetime">
              <a:rPr b="0" lang="en-CA" sz="10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2848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116288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3F7A-62CC-4649-B9AB-A9E417C14F4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9520" y="115560"/>
            <a:ext cx="986472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IMRBPB Annual Meeting (IAM) </a:t>
            </a: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Action Item 2023-03</a:t>
            </a:r>
            <a:br>
              <a:rPr sz="3500"/>
            </a:b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May 17, 2024</a:t>
            </a:r>
            <a:endParaRPr b="1" lang="en-US" sz="3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9160" y="2852280"/>
            <a:ext cx="95742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ed by Jeffrey Phip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ef, Operational Airworth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s Branch, Transport Canada Civil Aviation (TC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016600" y="623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IMS #202940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340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 (cont’d)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1160" y="981000"/>
            <a:ext cx="109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PMingLiU"/>
              </a:rPr>
              <a:t>MSG-3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Even if functional failures (evident or hidden) are identified, lack of direct adverse effect to saf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E.g., prevent the continued safe flight and l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Definition of safety/emergency systems or equip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Flight data recorders do not enhance aircraft evacuation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When failed, does not have an adverse effect on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Does not consider other functions of recorder or equip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Such as, data integrity, data preservation, use for accident/incident investigation and associated recommendations,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Current MSG-3 task selection is not aligned with typical tasks associated with recorder system mainten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6973-1A8F-4989-923E-1AA50B7A15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ential Option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717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A’s have a responsibility to establish/maintain national requirements inline with ICAO and industr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, Operational Check, and Recording insp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re if all NAAs follow ICAO requirements or if they have filed a 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d MSG-3 to ensure systems/equipment used for accident/incident investigation and SAR purposes are analy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definitions such as safety (adverse effect), direct adverse effect on operating safety, safety/emergency systems or equipment and 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logic diagram and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new analysis to address systems/equipment used for accident/incident investigation and SAR purposes, which may include flight recorders (FDR/CVR/DLR), ULD, and distress transmitters such as ELT and GAD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291C-0C28-4EFA-A27C-505306B8D9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3 - New logic in MSG-3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47800" y="906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finitions required to address systems/equipment used for accident/incident investigation and search and rescue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logic analysis to consid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, data accuracy, integrity/preservation, location transmissions, as part of the analysis procedure (Functions, functional failures, failure effects, failure cause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maintenance standards need to also be considered (type of task, intervals, how to per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would it fit into MSG-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current MSI sel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dicated MSI item? [e.g., MSI-AI (accident-investigation)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2.3 Aircraft Systems/Powerplant analysis proced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2.7 after L/HIRF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D458-2810-4046-8494-675FC9087A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3 – Road Map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47800" y="906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xamples of analysis for these systems (next 6 month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amples and draft CIP (March 202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draft CIP out for review (April 202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IP during 2025 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CIP based on comments received following 2025 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d submit final version of the CIP (February  2026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IP during 2026 I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05E7-990A-4E3B-B271-0855682FC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30" name="Content Placeholder 4" descr=""/>
          <p:cNvPicPr/>
          <p:nvPr/>
        </p:nvPicPr>
        <p:blipFill>
          <a:blip r:embed="rId1"/>
          <a:stretch/>
        </p:blipFill>
        <p:spPr>
          <a:xfrm>
            <a:off x="4776840" y="1690560"/>
            <a:ext cx="2638440" cy="255276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0D81-C353-44CC-9260-D60A370B7D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5200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on Item (AI) 2023-03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5160" y="2133360"/>
            <a:ext cx="10801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TCCA to develop a new regulatory CIP to cover the FDR/CVR issue related to AI 2019-06 and AI 2019-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ntent: to amend MSG-3 to accommodate safety related system to produce tasks to maintain integrity of such systems (e.g. FDR, CVR, DLR, ULB/D, and EL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7325-154C-4E07-A417-C1E3F75039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08080"/>
            <a:ext cx="10515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ight Recorder System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95160" y="1777680"/>
            <a:ext cx="10801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PMingLiU"/>
              </a:rPr>
              <a:t>Review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CAO SA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ndustr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NAA regulatory frame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MRB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1169-57DC-470A-B79D-C0FF5D7F7C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AO Annex 6 and Doc 10104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08120" y="4624560"/>
            <a:ext cx="1108872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ording Insp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data from each aircraft source and relevant external sources shall be carried out by replay to verify that all required signals meet intelligibility standa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data, in engineering units, to evaluate the validity of all recorded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messages shall be carried out by repl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LB/UL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ARP on maintenance. DOC 10104 recommends following manufacturer’s recommend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4127-3A06-41A8-8147-50AA2B7A54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08120" y="639720"/>
          <a:ext cx="10775880" cy="3865680"/>
        </p:xfrm>
        <a:graphic>
          <a:graphicData uri="http://schemas.openxmlformats.org/drawingml/2006/table">
            <a:tbl>
              <a:tblPr/>
              <a:tblGrid>
                <a:gridCol w="1455480"/>
                <a:gridCol w="3068640"/>
                <a:gridCol w="6251760"/>
              </a:tblGrid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s or no ICAs - 2 or 5 years (depending on sens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or 4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ROCAE ED-112A and SAE 8045A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B49D-05E2-40A2-A39C-C50BF7EFA3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2800" y="857160"/>
          <a:ext cx="10766520" cy="4559400"/>
        </p:xfrm>
        <a:graphic>
          <a:graphicData uri="http://schemas.openxmlformats.org/drawingml/2006/table">
            <a:tbl>
              <a:tblPr/>
              <a:tblGrid>
                <a:gridCol w="1351080"/>
                <a:gridCol w="3600360"/>
                <a:gridCol w="5815080"/>
              </a:tblGrid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to 2 years 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-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00 HRS/ 60 months (or by analysis of syst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’s recommendations (M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or 4 year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 (voltage and ope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A Regulatory Framework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87C7-7EC0-45B9-A8C0-B9726FB59F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6920" y="831960"/>
          <a:ext cx="11658600" cy="5333760"/>
        </p:xfrm>
        <a:graphic>
          <a:graphicData uri="http://schemas.openxmlformats.org/drawingml/2006/table">
            <a:tbl>
              <a:tblPr/>
              <a:tblGrid>
                <a:gridCol w="1187280"/>
                <a:gridCol w="2757600"/>
                <a:gridCol w="2592360"/>
                <a:gridCol w="2058840"/>
                <a:gridCol w="3062520"/>
              </a:tblGrid>
              <a:tr h="273600"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– NAA 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– NAA #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NAA 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</a:tr>
              <a:tr h="27396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or every 7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 (Intelligibil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3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7396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7216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or every 7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 or every 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7396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7360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–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59920"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2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RBR Task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84E1-7B58-4A4C-82E9-477C6F782F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5880" y="692280"/>
          <a:ext cx="11160360" cy="4717800"/>
        </p:xfrm>
        <a:graphic>
          <a:graphicData uri="http://schemas.openxmlformats.org/drawingml/2006/table">
            <a:tbl>
              <a:tblPr/>
              <a:tblGrid>
                <a:gridCol w="1187640"/>
                <a:gridCol w="2766960"/>
                <a:gridCol w="2232000"/>
                <a:gridCol w="2592360"/>
                <a:gridCol w="2381400"/>
              </a:tblGrid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yea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00 flight hours (F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0 FH or 18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00 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0 FH or 18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52720"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2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 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 (D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248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12" name="Content Placeholder 2" descr=""/>
          <p:cNvPicPr/>
          <p:nvPr/>
        </p:nvPicPr>
        <p:blipFill>
          <a:blip r:embed="rId1"/>
          <a:stretch/>
        </p:blipFill>
        <p:spPr>
          <a:xfrm>
            <a:off x="622440" y="1090440"/>
            <a:ext cx="10929960" cy="573732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745F-D046-468A-BB3A-EF9B0BD721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 (cont’d)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44560" y="861840"/>
            <a:ext cx="10515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S and MSG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luence of National requirements (IP 16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trying to solve the problem of some safety/emergency equipment may not have been identified as an M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S (chapters 4 &amp; 5) and MSG-3 (2-1-2.3 &amp; 2-3-1) amended to state the development of scheduled maintenance shall not be unduly influenced by National Requirements, which was intended to mean the MSI selection process should not be influe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helped with the identification of an MSI but may have prevented task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D5D6-88B3-4B77-B8E4-814EEEAD50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52:34Z</dcterms:created>
  <dc:creator>Claude Hudon</dc:creator>
  <dc:description/>
  <cp:keywords/>
  <dc:language>en-US</dc:language>
  <cp:lastModifiedBy>Phipps, Jeff (TC/TC)</cp:lastModifiedBy>
  <cp:lastPrinted>2024-05-06T13:48:28Z</cp:lastPrinted>
  <dcterms:modified xsi:type="dcterms:W3CDTF">2024-05-06T13:52:41Z</dcterms:modified>
  <cp:revision>1486</cp:revision>
  <dc:subject/>
  <dc:title>Title of 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b5bbdc02-cb35-4d29-b911-7fc063a80903_ActionId">
    <vt:lpwstr>0a961540-c603-4f8e-ac98-b17b1266b21c</vt:lpwstr>
  </property>
  <property fmtid="{D5CDD505-2E9C-101B-9397-08002B2CF9AE}" pid="3" name="MSIP_Label_b5bbdc02-cb35-4d29-b911-7fc063a80903_ContentBits">
    <vt:lpwstr>0</vt:lpwstr>
  </property>
  <property fmtid="{D5CDD505-2E9C-101B-9397-08002B2CF9AE}" pid="4" name="MSIP_Label_b5bbdc02-cb35-4d29-b911-7fc063a80903_Enabled">
    <vt:lpwstr>true</vt:lpwstr>
  </property>
  <property fmtid="{D5CDD505-2E9C-101B-9397-08002B2CF9AE}" pid="5" name="MSIP_Label_b5bbdc02-cb35-4d29-b911-7fc063a80903_Method">
    <vt:lpwstr>Privileged</vt:lpwstr>
  </property>
  <property fmtid="{D5CDD505-2E9C-101B-9397-08002B2CF9AE}" pid="6" name="MSIP_Label_b5bbdc02-cb35-4d29-b911-7fc063a80903_Name">
    <vt:lpwstr>Unclassified (No Marking)</vt:lpwstr>
  </property>
  <property fmtid="{D5CDD505-2E9C-101B-9397-08002B2CF9AE}" pid="7" name="MSIP_Label_b5bbdc02-cb35-4d29-b911-7fc063a80903_SetDate">
    <vt:lpwstr>2023-12-05T18:44:06Z</vt:lpwstr>
  </property>
  <property fmtid="{D5CDD505-2E9C-101B-9397-08002B2CF9AE}" pid="8" name="MSIP_Label_b5bbdc02-cb35-4d29-b911-7fc063a80903_SiteId">
    <vt:lpwstr>2008ffa9-c9b2-4d97-9ad9-4ace25386be7</vt:lpwstr>
  </property>
</Properties>
</file>